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4FB-E39C-4FCF-8F4B-AAC829C0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099-5BEA-4F3C-A2AF-2443B980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1D7C7-E0D4-4ABA-8081-A5AD8A72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EF6AC-7554-42B5-85B2-F91538EA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DC8D8-8A57-4A51-A489-AF8F70BA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8EF2F-888E-4701-BA47-3F26D953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3C790-27B4-45B0-A1F6-2AC0D26C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73D1E-EB07-4C9D-9EB7-B79CF8E8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A4C10-B8CC-4FAD-9A96-E9E3DC90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DA40F-A7C6-4123-9D37-96B18F95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C9592-A90A-48EA-91E7-C95B4EBB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35D2F-C507-417F-8138-59982203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1C4-7E11-46FC-AB2C-0890860E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9F957-1F70-401F-AF5E-38D2A964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F1552-26F3-4797-A981-3A53E1B8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82B0E-85C4-4DB8-9FB6-74CCE81F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6C225-9D80-42BE-8F62-D4948A84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DC8B3-C28C-47AB-B5B7-8B2AFFFA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65E44-926B-4859-8D14-70C3A557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36F98-DE8E-4B0E-854E-32B9B525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E694F-8679-45EB-9E7C-BF9023FC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1422F-AF1D-4334-8383-15337CE1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D7267-2D48-4FC0-8BB9-A0D774A5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1B8-3C76-47C5-A2E2-038EFFB7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02C47-A084-46FD-B9EC-2BD8DA12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3D87D-1570-4205-BA52-ED4C33E1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E7624-4613-4B74-AB8D-70C54429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D7F77-45E9-4220-9C2C-F6665086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47ADC-D721-470F-94A1-E194F681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43C16-1150-4DFB-9CEE-BE7E8A45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591AA-ADA3-4676-8F76-D05A87D0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335DF-6E95-4322-8FA9-A5C810FA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FB3C7-414B-4733-93FD-D9406352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8FBE5-1927-45BE-BDF8-E3F004A4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E79C-7334-43A5-A822-5A0CC425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E40A7-202E-4296-8E36-D7C50183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855E2-A4B0-40C1-812A-1C588A01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BD7BA-8C30-4CD6-808A-BE55FCD3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9AF94-8462-4A85-834D-D5095844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FA3CE-269E-4907-A02B-12332C06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72730-015A-49F9-95CF-22238544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DA1B6-4A1B-4EE7-B159-F628B2C2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15CC6-5899-4801-AC99-FD71E98C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39220-8B83-4493-86DD-BB49C575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E1524-AB26-4680-8B55-BB5B1A77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E648-8977-472D-8064-E1057838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3308D-2211-46AC-8667-B863CEEC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BE874-A24D-4CB8-ACFF-C3596FBC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7A893-A459-48FD-935F-C92E8ABA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2DEE7-821D-4254-AD87-83935448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86596-747E-4236-B074-F6D6E7BA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5B1EE-403E-4CD3-AECD-837BB7F9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48241-ACB9-4F2B-BE06-A52BCF73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4436E-FF4A-4BFB-BF08-55C129F9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454A1-EEEF-492B-830D-D025D83A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621E4-FD58-4655-9BF3-DC833162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402C-D876-4AE7-894E-77E8DBF1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8E177-66E3-46C1-997F-7DB9C58F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79B85-E165-4155-B60C-C4C411B3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59A51-AA96-4AAC-8D8E-F228498A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277E5-9CFE-4230-B334-B4367927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A482D-B5BB-4191-8A1A-DA9ED359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1E018-BE55-40A1-833F-FB30742F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02D3C-DD98-45F7-8A58-DDC4532A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15219-5012-4ACE-A905-77DA85EA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89F12-4466-4656-8906-23AD1D81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CB8EE-72A7-4784-BE90-02CEF09C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FE1E-F04A-43CD-BA9F-74AA739E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A1182-E786-4644-B26C-D56F1B62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73F3E-5DA0-49C3-9D3F-FBF923AC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97644-42CC-4B80-97EE-C01622A2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BE97C-BAFC-46B8-AF49-C4AEEEF0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D71D3-81F4-4D13-BE01-B641FD9E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DD543-2300-43D3-B542-EE2AA835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C02B0-5DD7-4C90-8F09-BF37C23E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2EB8D-3531-4F4D-9763-B87B4A9B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7314B-61D9-4EFA-BB67-F72180F5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8D663-68BF-448E-A429-A70EFC8B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5565-176E-4CE8-A6F3-5500360D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536255-0C07-4652-9EE7-CBA13ACF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958D5-E75A-40AF-907D-C8F8F446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86D0E5-E035-4368-B90F-7D6F57A7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A80AB-17AA-43BB-9FB0-F886B206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F36D56-D88F-468E-AB79-E60C3292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CA5E1-288F-449A-A7A8-BB3F0C7B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90FC5-18BA-4589-B6D6-72205500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4CED4-4866-4F50-8FC9-3A71281A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20D41-AB17-4C3F-A870-43A63C19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81BA8-C113-4922-8D32-E31DED01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F012-CB3E-41E0-AC6E-7B497BAA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F88D9-6DC1-441F-BD74-3DDCC7A3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D2BF6-29D3-4065-BD27-8572C40C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2FE11-EDFD-4DBB-8D6F-AC5A944B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326C27-B05B-4D19-AEB9-36CAD974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B51F7-8F1B-49D1-BF7F-EB148DBC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AA4C9-E18F-47C3-8437-A33367DE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418F6B-1C5A-48F0-90AB-A572426E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C5ACE-1BDE-432F-B17D-A8F395D7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B708C7-88C6-4B00-BC16-0B9C22B4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A9CA8B-923D-42B7-98C4-3757AC10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0865-DD94-4DE3-8FA5-35918ADE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8E3991-37BE-4988-8BB3-BCA636ED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F5976-2FCE-40F4-99E2-574F0CC9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232C07-EE0C-4649-AEA9-A187BCB1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0F4EF7-9D8E-470D-8187-493934A5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905EE3-891E-43A3-B150-FE649242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77C7F4-EC3A-435C-B324-53D93E63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6FB6EB-D434-4CD4-8F5F-8538EB01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F4CC84-6486-427A-8C1F-3E50492A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AA1E6-4293-475B-B85B-F64682A2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2FA94-12BA-472F-8D57-375AA9B5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D63-4365-4631-B3A6-BB4FFB70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7682-156C-4AE9-AC00-9A84BD4D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F5F754-54FF-448A-99DC-297FAECC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981CF3-B37B-4C1C-AD65-36E7876E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AA8675-23B8-4757-A63E-5CCC3A2F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BD556A-A327-4BCC-872F-E8C33BCC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51472-495D-4C12-9407-4921018B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9FFCA-C446-4C9B-93A9-AB0A9EB5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83BBB-B99C-4A89-8575-8F8D3F56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6B4112-E2CB-453C-8C50-A6197A71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07E3C-5CEC-4564-B932-2BC1B1D7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87825-58EF-48F5-835B-47BB0ED9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6B8E-0E42-487E-824B-79AE8E20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1D7C15-A039-434F-AEEB-A6612FBD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12D98A-F1C8-4528-A5D1-67E95383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BF16A1-8741-4AFA-8B0A-7CCE5DFF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B41BD3-2CD2-46C6-ADE4-06BD064F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DEAE2B-C024-4A82-9F16-D20B9916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EBD5C-9ED0-48C7-8E69-BF0791B1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89B76-AD80-48AC-8F24-58486AAC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E7058-45D0-422B-BA1E-85B0F5D2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B8357E-3A28-43FC-BDED-758D0EC2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E13F14-A7C2-41C6-9F20-D786D2D3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6414-0961-41A2-967B-08B3E9A8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FE9423-1645-46F5-A0F4-060B8A5D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85A826-190A-4C4E-AB0F-7AEA10B8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D5FBAB-9D2A-4FA0-BAF0-28A23B3A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39B082-7C6C-4ED3-8A0D-34E8236E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0CDF5B-43B2-40F2-AE61-482D211A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38F17F-2238-42C7-BF8A-4EBCAC6F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31FCEF-313F-4A31-9312-A99672AB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4650FE-F99C-4D04-AA62-FA3FECD9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3C904A-5588-4D11-A04B-14883E21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85DE68-1B9C-4FD9-804E-BD16BED4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B859-687F-429F-8D96-2F398D11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CA9D2E-3A7D-4EB3-A3EF-B8D47E84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541DBE-BFA7-4C30-81C0-57BCFED7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3BA52-116D-4C44-AF23-0234C0FE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98E79A-5927-448B-9282-78093A6B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67AC5F-403A-434C-B61F-E346FF19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59C1E3-DBEB-482F-92F8-399F97B9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D63EEC-6FA5-40EE-A82D-A2411C59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CCA259-D0C5-4514-BEBB-3FBFE773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017D07-539B-445F-8297-8D604A25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48BE79-72A4-4DCE-B083-36F85298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3C9A-4218-4C8C-835C-A2F0E946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49FBE4-B964-4120-AA9C-8CBC82AB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00ABB1-3C06-440A-9F3D-34800A0B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780C09-5B26-4227-B681-2E12508A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18135-6E3E-42F7-8775-720409A9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F68446-B8CB-4FB4-9CA3-97776182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7C4C7A-1D84-4822-B72A-65319D87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39831F-1E2D-4232-B030-EA43F183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6C7F2C-DB5D-4F1D-A2DE-CDA83E5F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F4B8B0-C429-47A7-95E6-A9440C07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361174-AAC8-4065-BE72-43780DA9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56A60E-377B-423E-8CBD-C26C8A27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747606-FBA2-4F3F-9E6E-34384564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D2E6A-826C-4F9C-A4DF-6DF31A0B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1C4-6569-451A-90DC-3E994B5E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95C48-04CE-47F3-948C-1FB7BFFD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EA5A-2CCD-4D17-9EFF-A5A71720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8253B-B26A-4904-A5CD-E3634FF9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028-1E0C-4B74-8E29-780224ED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8A810-BCB7-4217-A2CF-BA7525C5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3A445-4654-48A1-A444-E4D6CB4F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534C0-EAE0-4AB9-B9B8-0BE0A886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0F281-6DE4-4291-95B3-B17AB273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34B34-FFCD-461C-A1AF-7F8C66A4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31121-2568-4BEA-920D-34E57A92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5E739-7C65-4519-809B-CCE7A0E5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C714F-BD84-458C-B74B-4062FFB0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8DDE8-5627-4E29-A6F7-6A712A02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53E34-45EF-4108-B92A-55D751E6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D63-FD8D-4B68-95AA-75FDFCF9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D8937-ACCD-4F3A-889A-B33FE18E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03DE8-D8FF-497D-8EB9-6097180A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2BEF2-2BA9-46B5-BBC0-C844FAC7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F4440-7D1C-4361-9341-2032A4ED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222F1-E229-4215-AA93-A6FA72DD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9FA9F-1654-4F8F-B5D4-92717985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476C3-7683-4BA2-9903-5BA51295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D7857-39BB-4779-BFEC-B5FA3AD3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19DEB-B887-4100-86A3-1F6CF4EE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DA720-2D9A-4DF7-8BE2-77D7B9DE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5EC-CABB-4052-BDAD-45979DFC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DAE82-B123-4519-B3FF-85CAB2CA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197C1-75C8-425E-A9EC-3A0756EB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E7669-4CF6-404E-B658-5E7DCBDB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ED39A-BB26-4C51-AF43-F6544A0F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AC90A-4FC7-4824-8C55-177F7456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99719-8672-480A-B00D-0ADBB680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F9B6E-A768-4695-8F23-F6409637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83410-2F2E-4B4A-BA68-E955B320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B631E-5A8E-4722-B29F-F4D5F785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D4087-4123-4ADD-A85F-E57B4B6D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EBA-0920-4163-A513-D79315C5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E1A0C-44A3-4A9D-B46A-405C86DD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0EFC0-61F3-4A4E-A452-437ACFB0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A6549-B0E1-4ED0-B5AD-32A38BD7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BA968-3986-4357-BB05-980BB683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637BB-3180-412F-A79B-2954B7F6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AD107-DEB1-4990-B912-F6E10641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1202-1282-474C-BE5F-BA859902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0A038-5A02-41D8-B486-D58A5265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5C6CF-B904-4E90-A096-BE3818A9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0742A-E860-4D81-ACFB-6B000AA3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55E-3A44-4E21-82DF-F010384D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06BED-421F-4AF1-9654-723B6E74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A6442-7115-4925-A349-3AD38C12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07197-6EE8-45C2-B585-E18F8C52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047B0-9831-4A77-BB5A-AC48A0E4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1930A-F7B6-4E7D-A1B1-5B1C6C23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D3712-A1DD-4449-BD85-5326AFA2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41DB8-3A66-4ACC-9825-44195E29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A97EF-9B34-4ACF-AF1F-64337A2B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1635D-1BE1-48E7-AAEE-D11084AA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54554-785B-4464-9D98-0B5DF1F6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DD1-4A6D-481C-A708-2E7D9976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C5189-5E4A-42AD-AFFE-E8B751B5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24DF5-9827-42C6-B1B7-6CC38D2D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8C883-9B96-4E29-80C9-C2857E20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700E0-EE5B-43DB-B69D-C75F9780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EB0E1-0225-45FA-9D75-3B273292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AF893-2963-4071-BA72-61C637BE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15FDB-DCCF-4E23-B192-60A26BEB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047B0-03DF-4355-8B19-F319A56F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379BD-B898-4A7D-AC06-4420F278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34AA9-8A40-4E52-A82D-94A7799C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7841-541C-4AE4-96EA-D22864CC4E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3D5A-5A03-40AF-8E42-807510A336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6FF1-9E5B-4066-9B03-A915385A34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0836-6F7A-4C57-B04E-DAECD85ECE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0DEE-9FCB-4E5E-AA73-F3DACC2059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1734-EE6B-435B-A647-F371F62CB6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9CAD-0CC2-4A3F-88BB-9613E716ED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85D1-DD62-4834-99D2-E8C237B0E7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FA50-1C8B-4BD4-8F09-B529918F48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BDB4-3793-4CF5-9758-21627BEBAB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7FD1-C7EE-4710-8BE7-C334AA65FE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99DB-1FBB-4A8F-89FF-4022198447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3C2A-B75E-47DE-B215-C4D17E1DE7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A645-CB6A-4C8E-B9A7-B0E9B28941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95F1-76F5-4DC2-B18B-FAF9418302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4840-652D-4610-852B-D44B4EDB4C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36D6-E9F9-4CBA-A098-A57432F683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407D-D3C8-44AF-81B9-9A8969807C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5CEE-7CDC-4608-AB55-867F62152C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649A-81F6-49BB-B1CA-5F4928E1A4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7623-A48F-43A3-AC20-CAF669D07C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968E-9FD0-4A8C-8229-A5430F5FF5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74EC-22EB-443B-945C-2F6F1534D5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B289-0964-4F8F-B7B7-E8E6BF40E1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A7F7-C677-4DF9-A9E2-2674C4FAAB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ABD9-C7B4-47D2-880C-6D40C2FA63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552D-3029-483D-860F-430D69A9D9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DE7B-4059-4838-B5E2-51D67ED0C7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7968-ABFF-466C-BC83-6693CFDE01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86C9-E0AA-4D71-9556-9110833C2A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6E60-418C-421D-8EA5-FB5B5E8B60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2724-9688-4FC1-BF2F-0B2CA1FD2B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6843-7107-4270-BD03-E6C875D4C8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139E-151E-4578-AECE-4A9D443890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1491-AFED-4A1A-A8AC-4AE0F6B8D0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F720-E5B8-4322-88C1-4478EE4EE2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8747-132D-40F2-BBB6-8FBFFE0B4D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0A70-7C45-4937-A338-FC898AFD55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2F3F-B4AC-4E42-BD3F-E3F0EE42C4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1343160" y="2943360"/>
            <a:ext cx="645768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22529" descr=""/>
          <p:cNvPicPr/>
          <p:nvPr/>
        </p:nvPicPr>
        <p:blipFill>
          <a:blip r:embed="rId1"/>
          <a:stretch/>
        </p:blipFill>
        <p:spPr>
          <a:xfrm>
            <a:off x="371520" y="781200"/>
            <a:ext cx="8400960" cy="56005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4643280" y="57340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1835280" y="5805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1908000" y="3429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7451640" y="3429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4716360" y="3429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图片 21505" descr=""/>
          <p:cNvPicPr/>
          <p:nvPr/>
        </p:nvPicPr>
        <p:blipFill>
          <a:blip r:embed="rId1"/>
          <a:stretch/>
        </p:blipFill>
        <p:spPr>
          <a:xfrm>
            <a:off x="271440" y="1119240"/>
            <a:ext cx="8601120" cy="46195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1258920" y="4221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20481" descr=""/>
          <p:cNvPicPr/>
          <p:nvPr/>
        </p:nvPicPr>
        <p:blipFill>
          <a:blip r:embed="rId1"/>
          <a:stretch/>
        </p:blipFill>
        <p:spPr>
          <a:xfrm>
            <a:off x="609480" y="1557360"/>
            <a:ext cx="7925040" cy="3743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8193" descr=""/>
          <p:cNvPicPr/>
          <p:nvPr/>
        </p:nvPicPr>
        <p:blipFill>
          <a:blip r:embed="rId1"/>
          <a:stretch/>
        </p:blipFill>
        <p:spPr>
          <a:xfrm>
            <a:off x="804960" y="1709640"/>
            <a:ext cx="7534080" cy="34387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9217" descr=""/>
          <p:cNvPicPr/>
          <p:nvPr/>
        </p:nvPicPr>
        <p:blipFill>
          <a:blip r:embed="rId1"/>
          <a:stretch/>
        </p:blipFill>
        <p:spPr>
          <a:xfrm>
            <a:off x="471600" y="981000"/>
            <a:ext cx="8200800" cy="48960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826920" y="270828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0241" descr=""/>
          <p:cNvPicPr/>
          <p:nvPr/>
        </p:nvPicPr>
        <p:blipFill>
          <a:blip r:embed="rId1"/>
          <a:stretch/>
        </p:blipFill>
        <p:spPr>
          <a:xfrm>
            <a:off x="1057320" y="1862280"/>
            <a:ext cx="7029360" cy="31334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1403280" y="3645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2289" descr=""/>
          <p:cNvPicPr/>
          <p:nvPr/>
        </p:nvPicPr>
        <p:blipFill>
          <a:blip r:embed="rId1"/>
          <a:stretch/>
        </p:blipFill>
        <p:spPr>
          <a:xfrm>
            <a:off x="90360" y="782640"/>
            <a:ext cx="8963280" cy="58863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6300720" y="2695680"/>
            <a:ext cx="1727280" cy="449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3059280" y="3573360"/>
            <a:ext cx="172692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4"/>
          <a:stretch/>
        </p:blipFill>
        <p:spPr>
          <a:xfrm>
            <a:off x="6372360" y="353844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5"/>
          <a:stretch/>
        </p:blipFill>
        <p:spPr>
          <a:xfrm>
            <a:off x="1547640" y="5313240"/>
            <a:ext cx="136872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6"/>
          <a:stretch/>
        </p:blipFill>
        <p:spPr>
          <a:xfrm>
            <a:off x="4788000" y="5300640"/>
            <a:ext cx="1368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6:20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